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EADB-5850-41BA-A1DF-BA9C13DBB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1E99-FDC9-4F9D-8588-96611980D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A75C-8FBA-4316-922C-86888B863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5A3A-149D-4B02-817E-F66B312A0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1FEF6-8EAA-4CFA-BB97-5F2EBBE2C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261FE-2154-4FA7-85CB-838C0D182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E3997-8021-48D0-9D62-A4FCC564F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A7C9B-7290-427F-A31E-C77BB8AF7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73EC9-D2F5-46A1-A693-DE1540202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410C1-CB3B-4333-916E-46A3D2C5E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D18C0-AEF2-4B31-83B8-97A960BA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E4F3-9896-4523-82CC-E42E17940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9F5D8-DF40-4672-8F15-912F9755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BF42F-EA6F-4661-9722-B46FBE93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620D7-500E-42C2-B47B-97850505F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28EDD-4AFE-4A76-AD0F-36BBAEE78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B0E02-071C-4750-9E28-79FAA0CBE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0D81-C14B-4828-85EC-7EBCAFA9B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AE4F-0396-432E-8EA8-E3717458A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9CDB-9234-4482-9B82-A6F5BEF27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D619-6068-484E-9AFB-01313F5D8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55ED-DF5C-403A-86F6-7B26DA29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FFA8-5330-43F8-AEBF-7048BB38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5699-55EE-449C-A225-53587FEA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6EE38-C8E8-4A12-99A6-8863B7184297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C96AB-10EC-45FB-B2E4-E830E949AC80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2280" y="1371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ook Antiqua"/>
              </a:rPr>
              <a:t>Resistance</a:t>
            </a:r>
            <a:endParaRPr b="0" lang="en-US" sz="6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t type of organism do they target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acteria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t do they do to be effective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ontrol Growth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Kill bacteria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en aren’t they effective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Viruses – use antiviral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ide-spectru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an target many different kinds of bacteria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arrow-spectru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an target only specific types of bacteria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y does this matter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le 1" descr=""/>
          <p:cNvPicPr/>
          <p:nvPr/>
        </p:nvPicPr>
        <p:blipFill>
          <a:blip r:embed="rId1"/>
          <a:stretch/>
        </p:blipFill>
        <p:spPr>
          <a:xfrm>
            <a:off x="457200" y="103320"/>
            <a:ext cx="8229600" cy="1719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mply, antibiotic-resistant bacteria are bacteria that are able to defend themselves from antibiotic agent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ow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utatio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ome are naturally resistan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ome bacteria pass genetic information between each other for surviva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asically, listen to your prescribing doctor’s instructions.  If there are questions, there is no one better to go to than your doctor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ikipedia is not a reliable source.  Don’t go to it for instructions of how to use antibiotic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on’t waver from doctor’s order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general prescription lasts sixty day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8T17:41:03Z</dcterms:created>
  <dc:creator>John</dc:creator>
  <dc:description/>
  <dc:language>en-US</dc:language>
  <cp:lastModifiedBy>John</cp:lastModifiedBy>
  <dcterms:modified xsi:type="dcterms:W3CDTF">2012-04-17T13:40:23Z</dcterms:modified>
  <cp:revision>5</cp:revision>
  <dc:subject/>
  <dc:title>PowerPoint Presentation</dc:title>
</cp:coreProperties>
</file>